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730C-CB22-4BC9-BB06-96ED619AA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6CC1-6AAD-444F-B891-8D6519507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28D8-291A-4736-8067-7AEF18688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ECB-B8D4-4795-875A-A4E58CEC8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78C7-B852-4445-90ED-89ACBDB54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2376-A84A-4B1D-AC62-6A693927D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CFEC-1A32-479D-BF5D-336F785BC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58C-CAA7-4F6F-8BDE-66BA8359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A71-DDB1-45AB-8CC4-EA4947F7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D0E-29DB-453D-A8E3-99EE4714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3D4-46AA-459C-9E62-7B6E87A0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CAD-BDD2-4C62-9AD5-E59B75C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D6C-4F32-4CFF-9840-24146FED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ACD-7237-493C-9FB1-DDF234C8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D93-731E-46EF-80EC-0EF0FB6F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265-24A0-4F20-8E21-DFC45CE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077-8BEA-4F10-8CBC-DA38308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C58-6F41-43FC-B624-36BBD52E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D51-9D47-4FA8-906F-0785133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396-7D11-4A7B-971D-BA17F1B1D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2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3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slide" Target="slide10.xml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ovalent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ond in which electrons are shared uneve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olar covalent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eakest of all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Hydrogen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ything that has mass and takes up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t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ubstance containing two or more elements in a fixed rat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omp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y Substance that cannot be broken down to other substances by ordinary chemical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mallest unit of an 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At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ons, neutrons &amp;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subatomic particles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447920" y="17524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ond with a partially charged hydrogen atom, caused by a polar covalent bo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hydrogen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20574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ndency of molecules to stick together; is much stronger for water than most other liqui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Cohes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mount of energy associated with the movement of atoms and molecules in a body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rs. Hayden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used to describe a solution made with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aqueous so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295280" y="198108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easure of how difficult it is to stretch or break the surface of a liqu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urface Tens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447920" y="17524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lement that has the same number of protons and electrons but have different number of neutr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isot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mber of protons + Number of Neu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Atomic Ma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133720"/>
            <a:ext cx="10285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emical B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99072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ments, Atoms &amp; Molec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095880" y="1219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8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60" name="TextBox 105"/>
          <p:cNvSpPr/>
          <p:nvPr/>
        </p:nvSpPr>
        <p:spPr>
          <a:xfrm>
            <a:off x="612000" y="2286000"/>
            <a:ext cx="78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1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ergy Levels that house elec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electron sh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44792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stances that resist changes in pH by accepting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hen it is in excel and donating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hen it deplet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uff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in, Snow or fog with a pH level lower than 5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cid precipit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rocess leading to changes in the composi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hemical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Hydrogen Accep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lement that loses or gains and elect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asure of acid or basic sol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pH sca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easure of the intensity of the 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empera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 in which the atoms share the electrons EQU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non-pol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valent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race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95596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race element is associated with anem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ond in which there is Electron sh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ovalent bo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trongest bond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Tracey Hayden</cp:lastModifiedBy>
  <dcterms:modified xsi:type="dcterms:W3CDTF">2009-08-29T23:26:37Z</dcterms:modified>
  <cp:revision>52</cp:revision>
  <dc:subject/>
  <dc:title>No Slide Title</dc:title>
</cp:coreProperties>
</file>